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832-A70A-4416-85E7-E54E90CD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of meiosis to use as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Animation from http://biology.clc.uc.edu/courses/bio104/meio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tion of a new individual through the union of parent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chromosomes are animated so you can ask students the answers before it come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nimation is a review of mitosis.  Have students review what is happening to the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http://www.sci.sdsu.edu/multimedia/mitosis/mitosis_gi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1A2-4AFD-4ED7-B369-0EEC8D8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A50-FC2D-4793-8286-55F5B78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958-8DC9-49CB-9B39-CCF826CE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0B4-BCAE-4CA6-85A7-DC8AFD8B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5DA-B076-4043-A6B8-18381508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8BC0-EE87-424F-B959-A28FAB54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8BDE-7FF8-45B7-A56A-5E9A1889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5F35-9FB1-419C-9469-CBCA68CC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8B03-460E-40BF-A82E-AF55FBE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E21E-1BED-4C7E-BCB1-2BDA986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3F8-DD96-45DD-950D-AB3FA3C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9F8-45A2-43AC-860C-3C631507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47C-CDE6-4F4C-9A97-4AE8F64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BC09-93D6-4790-9E90-DC40FC4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29A-B5C1-4014-B475-62FA2896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59C8-8454-4F80-A04C-7351FBB6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8DCE-6EB4-4A7A-A95B-F583DBA0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DEC-14D3-4414-B59C-253B18B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33F-CC8A-4B4C-8C86-CBDC7E1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54A-993D-4DB4-9D68-6072143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0C4-7007-4782-B65F-8477DFC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BFC-8047-494B-B0B9-05FD060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DD9-D30A-4917-8209-2132A4C3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47D-D7E0-4920-A39E-8275BCA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315-209A-4189-A2B8-91CE10451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74C-856A-4E23-B2D8-18D777511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676520" y="2514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Even More Mit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27320" y="5029200"/>
            <a:ext cx="781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7. Are the resulting daughter cells different from the parent cel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71600" y="3429000"/>
            <a:ext cx="7772400" cy="1321560"/>
            <a:chOff x="1371600" y="3429000"/>
            <a:chExt cx="7772400" cy="1321560"/>
          </a:xfrm>
        </p:grpSpPr>
        <p:sp>
          <p:nvSpPr>
            <p:cNvPr id="214" name=""/>
            <p:cNvSpPr/>
            <p:nvPr/>
          </p:nvSpPr>
          <p:spPr>
            <a:xfrm>
              <a:off x="1371600" y="3429000"/>
              <a:ext cx="77724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6. How many daughter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5120" y="4108320"/>
              <a:ext cx="5410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produced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295280" y="1828800"/>
            <a:ext cx="6629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5. What types of cells are </a:t>
            </a:r>
            <a:br>
              <a:rPr sz="4000"/>
            </a:b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    produced by mitos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Cancer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develops when mutations occur in   genes that control cell division (mitosi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the mutations cause the cell to divide uncontrollab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Cancer (continued)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Benign tumors have not spread to other tissues; malignant tumors have spread to other tissu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447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 sexual (two parent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000" y="2971800"/>
            <a:ext cx="8001000" cy="2989440"/>
            <a:chOff x="1143000" y="2971800"/>
            <a:chExt cx="8001000" cy="2989440"/>
          </a:xfrm>
        </p:grpSpPr>
        <p:sp>
          <p:nvSpPr>
            <p:cNvPr id="224" name=""/>
            <p:cNvSpPr/>
            <p:nvPr/>
          </p:nvSpPr>
          <p:spPr>
            <a:xfrm>
              <a:off x="1143000" y="2971800"/>
              <a:ext cx="80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.  Formation of gametes with </a:t>
              </a:r>
              <a:r>
                <a:rPr b="0" lang="en-US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half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5257800"/>
              <a:ext cx="586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umber of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52480" y="4572000"/>
              <a:ext cx="632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their offspring has the correc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2480" y="3733560"/>
              <a:ext cx="678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the number of chromosomes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so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066680" y="685800"/>
            <a:ext cx="7772400" cy="1617840"/>
            <a:chOff x="1066680" y="685800"/>
            <a:chExt cx="7772400" cy="1617840"/>
          </a:xfrm>
        </p:grpSpPr>
        <p:sp>
          <p:nvSpPr>
            <p:cNvPr id="229" name=""/>
            <p:cNvSpPr/>
            <p:nvPr/>
          </p:nvSpPr>
          <p:spPr>
            <a:xfrm>
              <a:off x="1066680" y="685800"/>
              <a:ext cx="777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3.  During meiosis, 4 sperm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60020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made; one egg cell is mad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143000" y="3124080"/>
            <a:ext cx="8001000" cy="1541520"/>
            <a:chOff x="1143000" y="3124080"/>
            <a:chExt cx="8001000" cy="1541520"/>
          </a:xfrm>
        </p:grpSpPr>
        <p:sp>
          <p:nvSpPr>
            <p:cNvPr id="232" name=""/>
            <p:cNvSpPr/>
            <p:nvPr/>
          </p:nvSpPr>
          <p:spPr>
            <a:xfrm>
              <a:off x="1143000" y="3124080"/>
              <a:ext cx="80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4.  During meiosis, cells start ou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8800" y="3962160"/>
              <a:ext cx="655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diploid, then reduce to haploid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meiosis_ani" descr=""/>
          <p:cNvPicPr/>
          <p:nvPr/>
        </p:nvPicPr>
        <p:blipFill>
          <a:blip r:embed="rId1"/>
          <a:stretch/>
        </p:blipFill>
        <p:spPr>
          <a:xfrm>
            <a:off x="2816280" y="1776240"/>
            <a:ext cx="4406760" cy="4407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79680" y="3679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iosis Ani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ei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79600" y="1790640"/>
            <a:ext cx="7128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1.  Is the beginning parent cell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00200" y="5094360"/>
            <a:ext cx="6172200" cy="1560600"/>
            <a:chOff x="1600200" y="5094360"/>
            <a:chExt cx="6172200" cy="1560600"/>
          </a:xfrm>
        </p:grpSpPr>
        <p:graphicFrame>
          <p:nvGraphicFramePr>
            <p:cNvPr id="239" name=""/>
            <p:cNvGraphicFramePr/>
            <p:nvPr/>
          </p:nvGraphicFramePr>
          <p:xfrm>
            <a:off x="5334120" y="5105520"/>
            <a:ext cx="2438280" cy="133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5105520"/>
                      <a:ext cx="24382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1600200" y="5094360"/>
            <a:ext cx="2514600" cy="15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5094360"/>
                      <a:ext cx="2514600" cy="15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3" name=""/>
          <p:cNvGrpSpPr/>
          <p:nvPr/>
        </p:nvGrpSpPr>
        <p:grpSpPr>
          <a:xfrm>
            <a:off x="1523880" y="3505320"/>
            <a:ext cx="7010640" cy="1389240"/>
            <a:chOff x="1523880" y="3505320"/>
            <a:chExt cx="7010640" cy="1389240"/>
          </a:xfrm>
        </p:grpSpPr>
        <p:sp>
          <p:nvSpPr>
            <p:cNvPr id="244" name=""/>
            <p:cNvSpPr/>
            <p:nvPr/>
          </p:nvSpPr>
          <p:spPr>
            <a:xfrm>
              <a:off x="1523880" y="3505320"/>
              <a:ext cx="701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2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191120"/>
              <a:ext cx="586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parent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ore Mei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79240" y="1790640"/>
            <a:ext cx="75121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 Are the resulting daughter cells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76520" y="4876920"/>
            <a:ext cx="6858000" cy="1795320"/>
            <a:chOff x="1676520" y="4876920"/>
            <a:chExt cx="6858000" cy="1795320"/>
          </a:xfrm>
        </p:grpSpPr>
        <p:graphicFrame>
          <p:nvGraphicFramePr>
            <p:cNvPr id="249" name=""/>
            <p:cNvGraphicFramePr/>
            <p:nvPr/>
          </p:nvGraphicFramePr>
          <p:xfrm>
            <a:off x="5791320" y="5105520"/>
            <a:ext cx="2743200" cy="15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5105520"/>
                      <a:ext cx="274320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1676520" y="4876920"/>
            <a:ext cx="2895480" cy="179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876920"/>
                      <a:ext cx="2895480" cy="17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"/>
          <p:cNvGrpSpPr/>
          <p:nvPr/>
        </p:nvGrpSpPr>
        <p:grpSpPr>
          <a:xfrm>
            <a:off x="1447920" y="3352680"/>
            <a:ext cx="7010280" cy="1389240"/>
            <a:chOff x="1447920" y="3352680"/>
            <a:chExt cx="7010280" cy="1389240"/>
          </a:xfrm>
        </p:grpSpPr>
        <p:sp>
          <p:nvSpPr>
            <p:cNvPr id="254" name=""/>
            <p:cNvSpPr/>
            <p:nvPr/>
          </p:nvSpPr>
          <p:spPr>
            <a:xfrm>
              <a:off x="1447920" y="335268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4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33720" y="40384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daughter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Even More Mei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27320" y="5029200"/>
            <a:ext cx="781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7. Are the resulting daughter cells different from the parent cel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3429000"/>
            <a:ext cx="7772400" cy="1321560"/>
            <a:chOff x="1371600" y="3429000"/>
            <a:chExt cx="7772400" cy="1321560"/>
          </a:xfrm>
        </p:grpSpPr>
        <p:sp>
          <p:nvSpPr>
            <p:cNvPr id="259" name=""/>
            <p:cNvSpPr/>
            <p:nvPr/>
          </p:nvSpPr>
          <p:spPr>
            <a:xfrm>
              <a:off x="1371600" y="3429000"/>
              <a:ext cx="77724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6. How many daughter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5120" y="4108320"/>
              <a:ext cx="5410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produced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95280" y="1828800"/>
            <a:ext cx="6629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5. What types of cells are </a:t>
            </a:r>
            <a:br>
              <a:rPr sz="4000"/>
            </a:b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   produced by meios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Fertilization - 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joining of an egg cell &amp; sperm cell to create a zygo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B03709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6324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2286000"/>
            <a:ext cx="6705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 gametes (egg &amp; sperm)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3880" y="3276720"/>
            <a:ext cx="5943600" cy="1465200"/>
            <a:chOff x="1523880" y="3276720"/>
            <a:chExt cx="5943600" cy="1465200"/>
          </a:xfrm>
        </p:grpSpPr>
        <p:sp>
          <p:nvSpPr>
            <p:cNvPr id="156" name=""/>
            <p:cNvSpPr/>
            <p:nvPr/>
          </p:nvSpPr>
          <p:spPr>
            <a:xfrm>
              <a:off x="1523880" y="3276720"/>
              <a:ext cx="59436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.  human gametes have</a:t>
              </a: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03848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3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76520" y="609480"/>
            <a:ext cx="6629400" cy="1465560"/>
            <a:chOff x="1676520" y="609480"/>
            <a:chExt cx="6629400" cy="1465560"/>
          </a:xfrm>
        </p:grpSpPr>
        <p:sp>
          <p:nvSpPr>
            <p:cNvPr id="159" name=""/>
            <p:cNvSpPr/>
            <p:nvPr/>
          </p:nvSpPr>
          <p:spPr>
            <a:xfrm>
              <a:off x="1676520" y="609480"/>
              <a:ext cx="66294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ffff"/>
                  </a:solidFill>
                  <a:latin typeface="Times New Roman"/>
                </a:rPr>
                <a:t>Haploid</a:t>
              </a: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 cell with on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1371600"/>
              <a:ext cx="525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et of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410080" y="4724280"/>
          <a:ext cx="312444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724280"/>
                    <a:ext cx="31244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Fertilization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6" name="SO00513_" descr=""/>
          <p:cNvPicPr/>
          <p:nvPr/>
        </p:nvPicPr>
        <p:blipFill>
          <a:blip r:embed="rId1"/>
          <a:stretch/>
        </p:blipFill>
        <p:spPr>
          <a:xfrm>
            <a:off x="1554120" y="4586400"/>
            <a:ext cx="2544840" cy="20034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4165560" y="4365720"/>
            <a:ext cx="4062600" cy="1039680"/>
            <a:chOff x="4165560" y="4365720"/>
            <a:chExt cx="4062600" cy="1039680"/>
          </a:xfrm>
        </p:grpSpPr>
        <p:grpSp>
          <p:nvGrpSpPr>
            <p:cNvPr id="268" name=""/>
            <p:cNvGrpSpPr/>
            <p:nvPr/>
          </p:nvGrpSpPr>
          <p:grpSpPr>
            <a:xfrm>
              <a:off x="4165560" y="4365720"/>
              <a:ext cx="4062600" cy="1039680"/>
              <a:chOff x="4165560" y="4365720"/>
              <a:chExt cx="4062600" cy="1039680"/>
            </a:xfrm>
          </p:grpSpPr>
          <p:sp>
            <p:nvSpPr>
              <p:cNvPr id="269" name=""/>
              <p:cNvSpPr/>
              <p:nvPr/>
            </p:nvSpPr>
            <p:spPr>
              <a:xfrm>
                <a:off x="5516640" y="4657680"/>
                <a:ext cx="2711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Zygote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65560" y="4365720"/>
                <a:ext cx="1184400" cy="1039680"/>
              </a:xfrm>
              <a:prstGeom prst="ellipse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430880" y="4626000"/>
              <a:ext cx="6094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6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5231880" y="3495600"/>
            <a:ext cx="714600" cy="747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48480" y="1917720"/>
            <a:ext cx="1447560" cy="1506600"/>
            <a:chOff x="5748480" y="1917720"/>
            <a:chExt cx="1447560" cy="1506600"/>
          </a:xfrm>
        </p:grpSpPr>
        <p:sp>
          <p:nvSpPr>
            <p:cNvPr id="274" name=""/>
            <p:cNvSpPr/>
            <p:nvPr/>
          </p:nvSpPr>
          <p:spPr>
            <a:xfrm>
              <a:off x="5748480" y="1917720"/>
              <a:ext cx="1447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Mom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0240" y="2585880"/>
              <a:ext cx="828360" cy="83844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87880" y="2744640"/>
              <a:ext cx="6462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268800" y="3462480"/>
            <a:ext cx="77940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090880" y="2011320"/>
            <a:ext cx="1752480" cy="1938240"/>
            <a:chOff x="2090880" y="2011320"/>
            <a:chExt cx="1752480" cy="1938240"/>
          </a:xfrm>
        </p:grpSpPr>
        <p:grpSp>
          <p:nvGrpSpPr>
            <p:cNvPr id="279" name=""/>
            <p:cNvGrpSpPr/>
            <p:nvPr/>
          </p:nvGrpSpPr>
          <p:grpSpPr>
            <a:xfrm>
              <a:off x="2090880" y="2011320"/>
              <a:ext cx="1752480" cy="1938240"/>
              <a:chOff x="2090880" y="2011320"/>
              <a:chExt cx="1752480" cy="1938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090880" y="201132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Dad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2647800" y="2646360"/>
                <a:ext cx="598680" cy="1303200"/>
                <a:chOff x="2647800" y="2646360"/>
                <a:chExt cx="598680" cy="1303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647800" y="2646360"/>
                  <a:ext cx="598680" cy="617400"/>
                </a:xfrm>
                <a:prstGeom prst="ellipse">
                  <a:avLst/>
                </a:prstGeom>
                <a:solidFill>
                  <a:srgbClr val="00cc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689200" y="3263760"/>
                  <a:ext cx="406440" cy="685800"/>
                </a:xfrm>
                <a:custGeom>
                  <a:avLst/>
                  <a:gdLst/>
                  <a:ahLst/>
                  <a:rect l="l" t="t" r="r" b="b"/>
                  <a:pathLst>
                    <a:path w="256" h="432">
                      <a:moveTo>
                        <a:pt x="160" y="0"/>
                      </a:moveTo>
                      <a:cubicBezTo>
                        <a:pt x="80" y="56"/>
                        <a:pt x="0" y="112"/>
                        <a:pt x="16" y="144"/>
                      </a:cubicBezTo>
                      <a:cubicBezTo>
                        <a:pt x="32" y="176"/>
                        <a:pt x="256" y="160"/>
                        <a:pt x="256" y="192"/>
                      </a:cubicBezTo>
                      <a:cubicBezTo>
                        <a:pt x="256" y="224"/>
                        <a:pt x="16" y="296"/>
                        <a:pt x="16" y="336"/>
                      </a:cubicBezTo>
                      <a:cubicBezTo>
                        <a:pt x="16" y="376"/>
                        <a:pt x="136" y="404"/>
                        <a:pt x="256" y="432"/>
                      </a:cubicBezTo>
                    </a:path>
                  </a:pathLst>
                </a:custGeom>
                <a:noFill/>
                <a:ln w="38160">
                  <a:solidFill>
                    <a:srgbClr val="00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2708280" y="2762280"/>
              <a:ext cx="5554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Fertilization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emale is designated by X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le is designated by X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Twins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c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one egg is fertilized by one sperm and the zygote splits resulting in two identical zygo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447920" y="4495680"/>
            <a:ext cx="4114800" cy="1828800"/>
            <a:chOff x="1447920" y="4495680"/>
            <a:chExt cx="4114800" cy="1828800"/>
          </a:xfrm>
        </p:grpSpPr>
        <p:sp>
          <p:nvSpPr>
            <p:cNvPr id="290" name=""/>
            <p:cNvSpPr/>
            <p:nvPr/>
          </p:nvSpPr>
          <p:spPr>
            <a:xfrm>
              <a:off x="1447920" y="4495680"/>
              <a:ext cx="685800" cy="6098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3880" y="5410080"/>
              <a:ext cx="533520" cy="4572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00200" y="586728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144" y="0"/>
                  </a:moveTo>
                  <a:cubicBezTo>
                    <a:pt x="72" y="32"/>
                    <a:pt x="0" y="64"/>
                    <a:pt x="0" y="96"/>
                  </a:cubicBezTo>
                  <a:cubicBezTo>
                    <a:pt x="0" y="128"/>
                    <a:pt x="144" y="160"/>
                    <a:pt x="144" y="192"/>
                  </a:cubicBezTo>
                  <a:cubicBezTo>
                    <a:pt x="144" y="224"/>
                    <a:pt x="72" y="256"/>
                    <a:pt x="0" y="28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0" y="4800600"/>
              <a:ext cx="11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209680" y="5105160"/>
              <a:ext cx="121932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29000" y="5105520"/>
              <a:ext cx="83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9720" y="4648320"/>
              <a:ext cx="114300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63960" y="464832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104" y="0"/>
                </a:moveTo>
                <a:cubicBezTo>
                  <a:pt x="160" y="76"/>
                  <a:pt x="216" y="152"/>
                  <a:pt x="200" y="192"/>
                </a:cubicBezTo>
                <a:cubicBezTo>
                  <a:pt x="184" y="232"/>
                  <a:pt x="16" y="208"/>
                  <a:pt x="8" y="240"/>
                </a:cubicBezTo>
                <a:cubicBezTo>
                  <a:pt x="0" y="272"/>
                  <a:pt x="152" y="344"/>
                  <a:pt x="152" y="384"/>
                </a:cubicBezTo>
                <a:cubicBezTo>
                  <a:pt x="152" y="424"/>
                  <a:pt x="8" y="456"/>
                  <a:pt x="8" y="480"/>
                </a:cubicBezTo>
                <a:cubicBezTo>
                  <a:pt x="8" y="504"/>
                  <a:pt x="80" y="516"/>
                  <a:pt x="152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715000" y="4343400"/>
            <a:ext cx="1905120" cy="1447920"/>
            <a:chOff x="5715000" y="4343400"/>
            <a:chExt cx="1905120" cy="1447920"/>
          </a:xfrm>
        </p:grpSpPr>
        <p:sp>
          <p:nvSpPr>
            <p:cNvPr id="299" name=""/>
            <p:cNvSpPr/>
            <p:nvPr/>
          </p:nvSpPr>
          <p:spPr>
            <a:xfrm flipV="1">
              <a:off x="5715000" y="4723920"/>
              <a:ext cx="114300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5000" y="5181480"/>
              <a:ext cx="1143000" cy="15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10280" y="4343400"/>
              <a:ext cx="609840" cy="60948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0280" y="5181480"/>
              <a:ext cx="609840" cy="6098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Twins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join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one egg is fertilized by one sperm and the zygote incompletely spl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447920" y="4495680"/>
            <a:ext cx="4114800" cy="1828800"/>
            <a:chOff x="1447920" y="4495680"/>
            <a:chExt cx="4114800" cy="1828800"/>
          </a:xfrm>
        </p:grpSpPr>
        <p:sp>
          <p:nvSpPr>
            <p:cNvPr id="306" name=""/>
            <p:cNvSpPr/>
            <p:nvPr/>
          </p:nvSpPr>
          <p:spPr>
            <a:xfrm>
              <a:off x="1447920" y="4495680"/>
              <a:ext cx="685800" cy="6098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23880" y="5410080"/>
              <a:ext cx="533520" cy="4572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586728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144" y="0"/>
                  </a:moveTo>
                  <a:cubicBezTo>
                    <a:pt x="72" y="32"/>
                    <a:pt x="0" y="64"/>
                    <a:pt x="0" y="96"/>
                  </a:cubicBezTo>
                  <a:cubicBezTo>
                    <a:pt x="0" y="128"/>
                    <a:pt x="144" y="160"/>
                    <a:pt x="144" y="192"/>
                  </a:cubicBezTo>
                  <a:cubicBezTo>
                    <a:pt x="144" y="224"/>
                    <a:pt x="72" y="256"/>
                    <a:pt x="0" y="28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4800600"/>
              <a:ext cx="11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209680" y="5105160"/>
              <a:ext cx="121932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29000" y="5105520"/>
              <a:ext cx="83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9720" y="4648320"/>
              <a:ext cx="114300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51360" y="4648320"/>
            <a:ext cx="406440" cy="83808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64" y="0"/>
                </a:moveTo>
                <a:cubicBezTo>
                  <a:pt x="116" y="76"/>
                  <a:pt x="168" y="152"/>
                  <a:pt x="160" y="192"/>
                </a:cubicBezTo>
                <a:cubicBezTo>
                  <a:pt x="152" y="232"/>
                  <a:pt x="0" y="216"/>
                  <a:pt x="16" y="240"/>
                </a:cubicBezTo>
                <a:cubicBezTo>
                  <a:pt x="32" y="264"/>
                  <a:pt x="256" y="312"/>
                  <a:pt x="256" y="336"/>
                </a:cubicBezTo>
                <a:cubicBezTo>
                  <a:pt x="256" y="360"/>
                  <a:pt x="24" y="352"/>
                  <a:pt x="16" y="384"/>
                </a:cubicBezTo>
                <a:cubicBezTo>
                  <a:pt x="8" y="416"/>
                  <a:pt x="108" y="472"/>
                  <a:pt x="20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715000" y="4648320"/>
            <a:ext cx="2286000" cy="838080"/>
            <a:chOff x="5715000" y="4648320"/>
            <a:chExt cx="2286000" cy="838080"/>
          </a:xfrm>
        </p:grpSpPr>
        <p:grpSp>
          <p:nvGrpSpPr>
            <p:cNvPr id="315" name=""/>
            <p:cNvGrpSpPr/>
            <p:nvPr/>
          </p:nvGrpSpPr>
          <p:grpSpPr>
            <a:xfrm>
              <a:off x="6400800" y="4648320"/>
              <a:ext cx="1600200" cy="838080"/>
              <a:chOff x="6400800" y="4648320"/>
              <a:chExt cx="1600200" cy="838080"/>
            </a:xfrm>
          </p:grpSpPr>
          <p:sp>
            <p:nvSpPr>
              <p:cNvPr id="316" name=""/>
              <p:cNvSpPr/>
              <p:nvPr/>
            </p:nvSpPr>
            <p:spPr>
              <a:xfrm>
                <a:off x="6400800" y="4648320"/>
                <a:ext cx="838440" cy="8380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62920" y="4648320"/>
                <a:ext cx="838080" cy="8380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715000" y="51055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533520"/>
            <a:ext cx="6774120" cy="5316480"/>
            <a:chOff x="1523880" y="533520"/>
            <a:chExt cx="6774120" cy="5316480"/>
          </a:xfrm>
        </p:grpSpPr>
        <p:grpSp>
          <p:nvGrpSpPr>
            <p:cNvPr id="320" name=""/>
            <p:cNvGrpSpPr/>
            <p:nvPr/>
          </p:nvGrpSpPr>
          <p:grpSpPr>
            <a:xfrm>
              <a:off x="1523880" y="533520"/>
              <a:ext cx="3597480" cy="5316480"/>
              <a:chOff x="1523880" y="533520"/>
              <a:chExt cx="3597480" cy="5316480"/>
            </a:xfrm>
          </p:grpSpPr>
          <p:pic>
            <p:nvPicPr>
              <p:cNvPr id="321" name="Italiantwins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33520"/>
                <a:ext cx="2741760" cy="440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Baratwins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3657600"/>
                <a:ext cx="3597480" cy="2192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3" name="Russiantwins" descr=""/>
            <p:cNvPicPr/>
            <p:nvPr/>
          </p:nvPicPr>
          <p:blipFill>
            <a:blip r:embed="rId3"/>
            <a:stretch/>
          </p:blipFill>
          <p:spPr>
            <a:xfrm>
              <a:off x="5257800" y="990720"/>
              <a:ext cx="3040200" cy="463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Twins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tern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two different eggs are fertilized by two different sperm; no more genetically similar than brothers or sisters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733920"/>
            <a:ext cx="5562720" cy="2819160"/>
            <a:chOff x="1523880" y="3733920"/>
            <a:chExt cx="5562720" cy="2819160"/>
          </a:xfrm>
        </p:grpSpPr>
        <p:grpSp>
          <p:nvGrpSpPr>
            <p:cNvPr id="327" name=""/>
            <p:cNvGrpSpPr/>
            <p:nvPr/>
          </p:nvGrpSpPr>
          <p:grpSpPr>
            <a:xfrm>
              <a:off x="1523880" y="3733920"/>
              <a:ext cx="3886200" cy="1752480"/>
              <a:chOff x="1523880" y="3733920"/>
              <a:chExt cx="3886200" cy="1752480"/>
            </a:xfrm>
          </p:grpSpPr>
          <p:sp>
            <p:nvSpPr>
              <p:cNvPr id="328" name=""/>
              <p:cNvSpPr/>
              <p:nvPr/>
            </p:nvSpPr>
            <p:spPr>
              <a:xfrm>
                <a:off x="1523880" y="3733920"/>
                <a:ext cx="685800" cy="6094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600200" y="4572000"/>
                <a:ext cx="533520" cy="914400"/>
                <a:chOff x="1600200" y="4572000"/>
                <a:chExt cx="533520" cy="914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600200" y="4572000"/>
                  <a:ext cx="533520" cy="457200"/>
                </a:xfrm>
                <a:prstGeom prst="ellipse">
                  <a:avLst/>
                </a:prstGeom>
                <a:solidFill>
                  <a:srgbClr val="00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76520" y="5029200"/>
                  <a:ext cx="228600" cy="457200"/>
                </a:xfrm>
                <a:custGeom>
                  <a:avLst/>
                  <a:gdLst/>
                  <a:ahLst/>
                  <a:rect l="l" t="t" r="r" b="b"/>
                  <a:pathLst>
                    <a:path w="144" h="288">
                      <a:moveTo>
                        <a:pt x="144" y="0"/>
                      </a:moveTo>
                      <a:cubicBezTo>
                        <a:pt x="72" y="32"/>
                        <a:pt x="0" y="64"/>
                        <a:pt x="0" y="96"/>
                      </a:cubicBezTo>
                      <a:cubicBezTo>
                        <a:pt x="0" y="128"/>
                        <a:pt x="144" y="160"/>
                        <a:pt x="144" y="192"/>
                      </a:cubicBezTo>
                      <a:cubicBezTo>
                        <a:pt x="144" y="224"/>
                        <a:pt x="72" y="256"/>
                        <a:pt x="0" y="288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286000" y="4038480"/>
                <a:ext cx="114300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286000" y="4343400"/>
                <a:ext cx="11430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352680" y="434340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67080" y="3886200"/>
                <a:ext cx="1143000" cy="91440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400" y="4800600"/>
              <a:ext cx="3886200" cy="1752480"/>
              <a:chOff x="3200400" y="4800600"/>
              <a:chExt cx="3886200" cy="1752480"/>
            </a:xfrm>
          </p:grpSpPr>
          <p:sp>
            <p:nvSpPr>
              <p:cNvPr id="337" name=""/>
              <p:cNvSpPr/>
              <p:nvPr/>
            </p:nvSpPr>
            <p:spPr>
              <a:xfrm>
                <a:off x="3200400" y="4800600"/>
                <a:ext cx="685800" cy="6094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3276720" y="5638680"/>
                <a:ext cx="533520" cy="914400"/>
                <a:chOff x="3276720" y="5638680"/>
                <a:chExt cx="533520" cy="9144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276720" y="5638680"/>
                  <a:ext cx="533520" cy="457200"/>
                </a:xfrm>
                <a:prstGeom prst="ellipse">
                  <a:avLst/>
                </a:prstGeom>
                <a:solidFill>
                  <a:srgbClr val="00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353040" y="6095880"/>
                  <a:ext cx="228600" cy="457200"/>
                </a:xfrm>
                <a:custGeom>
                  <a:avLst/>
                  <a:gdLst/>
                  <a:ahLst/>
                  <a:rect l="l" t="t" r="r" b="b"/>
                  <a:pathLst>
                    <a:path w="144" h="288">
                      <a:moveTo>
                        <a:pt x="144" y="0"/>
                      </a:moveTo>
                      <a:cubicBezTo>
                        <a:pt x="72" y="32"/>
                        <a:pt x="0" y="64"/>
                        <a:pt x="0" y="96"/>
                      </a:cubicBezTo>
                      <a:cubicBezTo>
                        <a:pt x="0" y="128"/>
                        <a:pt x="144" y="160"/>
                        <a:pt x="144" y="192"/>
                      </a:cubicBezTo>
                      <a:cubicBezTo>
                        <a:pt x="144" y="224"/>
                        <a:pt x="72" y="256"/>
                        <a:pt x="0" y="288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3962520" y="5105160"/>
                <a:ext cx="114300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962520" y="5410080"/>
                <a:ext cx="11430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29200" y="541008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43600" y="4952880"/>
                <a:ext cx="1143000" cy="91440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3880" y="457200"/>
            <a:ext cx="71629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Diploid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ell with two sets of chromoso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2209680"/>
            <a:ext cx="7162560" cy="1312920"/>
            <a:chOff x="1447920" y="2209680"/>
            <a:chExt cx="7162560" cy="1312920"/>
          </a:xfrm>
        </p:grpSpPr>
        <p:sp>
          <p:nvSpPr>
            <p:cNvPr id="165" name=""/>
            <p:cNvSpPr/>
            <p:nvPr/>
          </p:nvSpPr>
          <p:spPr>
            <a:xfrm>
              <a:off x="1447920" y="2209680"/>
              <a:ext cx="71625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.  all body cells except gamet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7400" y="2819160"/>
              <a:ext cx="556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(somatic cells)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447920" y="3809880"/>
            <a:ext cx="6095880" cy="1389240"/>
            <a:chOff x="1447920" y="3809880"/>
            <a:chExt cx="6095880" cy="1389240"/>
          </a:xfrm>
        </p:grpSpPr>
        <p:sp>
          <p:nvSpPr>
            <p:cNvPr id="168" name=""/>
            <p:cNvSpPr/>
            <p:nvPr/>
          </p:nvSpPr>
          <p:spPr>
            <a:xfrm>
              <a:off x="1447920" y="3809880"/>
              <a:ext cx="60958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.  human somatic cells hav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4495680"/>
              <a:ext cx="502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46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6095880" y="4952880"/>
          <a:ext cx="266724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952880"/>
                    <a:ext cx="26672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ff"/>
                </a:solidFill>
                <a:latin typeface="Times New Roman"/>
              </a:rPr>
              <a:t>Types of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ff"/>
                </a:solidFill>
                <a:latin typeface="Times New Roman"/>
              </a:rPr>
              <a:t>Reproduc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22860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tosis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(aka the cell cycle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19320" y="1447920"/>
            <a:ext cx="6324480" cy="1341360"/>
            <a:chOff x="1219320" y="1447920"/>
            <a:chExt cx="6324480" cy="1341360"/>
          </a:xfrm>
        </p:grpSpPr>
        <p:sp>
          <p:nvSpPr>
            <p:cNvPr id="176" name=""/>
            <p:cNvSpPr/>
            <p:nvPr/>
          </p:nvSpPr>
          <p:spPr>
            <a:xfrm>
              <a:off x="1219320" y="1447920"/>
              <a:ext cx="61722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1.  asexual (one parent); 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800" y="2133360"/>
              <a:ext cx="57150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somatic  cell splits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3124080"/>
            <a:ext cx="7772400" cy="3004560"/>
            <a:chOff x="1066680" y="3124080"/>
            <a:chExt cx="7772400" cy="3004560"/>
          </a:xfrm>
        </p:grpSpPr>
        <p:sp>
          <p:nvSpPr>
            <p:cNvPr id="179" name=""/>
            <p:cNvSpPr/>
            <p:nvPr/>
          </p:nvSpPr>
          <p:spPr>
            <a:xfrm>
              <a:off x="1066680" y="3124080"/>
              <a:ext cx="77724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2.  Formation of cells with the </a:t>
              </a:r>
              <a:r>
                <a:rPr b="0" lang="en-US" sz="4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xact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52480" y="5410080"/>
              <a:ext cx="53341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growth &amp; repair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6520" y="4648320"/>
              <a:ext cx="64008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somatic cells are involved in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76520" y="3809880"/>
              <a:ext cx="67816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ame number of chromosomes</a:t>
              </a: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;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371600" y="3124080"/>
            <a:ext cx="6629400" cy="1465560"/>
            <a:chOff x="1371600" y="3124080"/>
            <a:chExt cx="6629400" cy="1465560"/>
          </a:xfrm>
        </p:grpSpPr>
        <p:sp>
          <p:nvSpPr>
            <p:cNvPr id="184" name=""/>
            <p:cNvSpPr/>
            <p:nvPr/>
          </p:nvSpPr>
          <p:spPr>
            <a:xfrm>
              <a:off x="1371600" y="3124080"/>
              <a:ext cx="632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4.  during mitosis,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388620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lways diploid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295280" y="1066680"/>
            <a:ext cx="7391520" cy="1541880"/>
            <a:chOff x="1295280" y="1066680"/>
            <a:chExt cx="7391520" cy="1541880"/>
          </a:xfrm>
        </p:grpSpPr>
        <p:sp>
          <p:nvSpPr>
            <p:cNvPr id="187" name=""/>
            <p:cNvSpPr/>
            <p:nvPr/>
          </p:nvSpPr>
          <p:spPr>
            <a:xfrm>
              <a:off x="1295280" y="106668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buClr>
                  <a:srgbClr val="ffffff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during every mitosis cycle, two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190512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cells are made from on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itosis Ani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79600" y="2098800"/>
            <a:ext cx="4970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it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79600" y="1790640"/>
            <a:ext cx="7128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1.  Is the beginning parent cell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5094360"/>
            <a:ext cx="6172200" cy="1560600"/>
            <a:chOff x="1600200" y="5094360"/>
            <a:chExt cx="6172200" cy="1560600"/>
          </a:xfrm>
        </p:grpSpPr>
        <p:graphicFrame>
          <p:nvGraphicFramePr>
            <p:cNvPr id="194" name=""/>
            <p:cNvGraphicFramePr/>
            <p:nvPr/>
          </p:nvGraphicFramePr>
          <p:xfrm>
            <a:off x="5334120" y="5105520"/>
            <a:ext cx="2438280" cy="133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5105520"/>
                      <a:ext cx="24382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1600200" y="5094360"/>
            <a:ext cx="2514600" cy="15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5094360"/>
                      <a:ext cx="2514600" cy="15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"/>
          <p:cNvGrpSpPr/>
          <p:nvPr/>
        </p:nvGrpSpPr>
        <p:grpSpPr>
          <a:xfrm>
            <a:off x="1523880" y="3505320"/>
            <a:ext cx="7010640" cy="1389240"/>
            <a:chOff x="1523880" y="3505320"/>
            <a:chExt cx="7010640" cy="1389240"/>
          </a:xfrm>
        </p:grpSpPr>
        <p:sp>
          <p:nvSpPr>
            <p:cNvPr id="199" name=""/>
            <p:cNvSpPr/>
            <p:nvPr/>
          </p:nvSpPr>
          <p:spPr>
            <a:xfrm>
              <a:off x="1523880" y="3505320"/>
              <a:ext cx="701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2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9680" y="4191120"/>
              <a:ext cx="586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parent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ore Mit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9240" y="1790640"/>
            <a:ext cx="75121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 Are the resulting daughter cells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4876920"/>
            <a:ext cx="6858000" cy="1795320"/>
            <a:chOff x="1676520" y="4876920"/>
            <a:chExt cx="6858000" cy="1795320"/>
          </a:xfrm>
        </p:grpSpPr>
        <p:graphicFrame>
          <p:nvGraphicFramePr>
            <p:cNvPr id="204" name=""/>
            <p:cNvGraphicFramePr/>
            <p:nvPr/>
          </p:nvGraphicFramePr>
          <p:xfrm>
            <a:off x="5791320" y="5105520"/>
            <a:ext cx="2743200" cy="15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5105520"/>
                      <a:ext cx="274320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1676520" y="4876920"/>
            <a:ext cx="2895480" cy="179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876920"/>
                      <a:ext cx="2895480" cy="17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8" name=""/>
          <p:cNvGrpSpPr/>
          <p:nvPr/>
        </p:nvGrpSpPr>
        <p:grpSpPr>
          <a:xfrm>
            <a:off x="1447920" y="3352680"/>
            <a:ext cx="7010280" cy="1389240"/>
            <a:chOff x="1447920" y="3352680"/>
            <a:chExt cx="7010280" cy="1389240"/>
          </a:xfrm>
        </p:grpSpPr>
        <p:sp>
          <p:nvSpPr>
            <p:cNvPr id="209" name=""/>
            <p:cNvSpPr/>
            <p:nvPr/>
          </p:nvSpPr>
          <p:spPr>
            <a:xfrm>
              <a:off x="1447920" y="335268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4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33720" y="40384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daughter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7:42Z</dcterms:created>
  <dc:creator>Plano ISD</dc:creator>
  <dc:description/>
  <dc:language>en-US</dc:language>
  <cp:lastModifiedBy>Plano ISD</cp:lastModifiedBy>
  <dcterms:modified xsi:type="dcterms:W3CDTF">2004-11-16T16:12:12Z</dcterms:modified>
  <cp:revision>35</cp:revision>
  <dc:subject/>
  <dc:title>Chapter 6 </dc:title>
</cp:coreProperties>
</file>